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35B-D60B-460A-A9EB-E442AA203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3E46-87B1-426A-9F4C-6D5CD926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E0F3-402B-49F9-9BD2-2E0CE6508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E213-C51B-4444-980B-0030BBF6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76FD-EA06-4F8E-9C1A-A07075B5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521F-E1FB-4966-81A4-4E900F63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E2B-22E0-4DD9-9CDC-A807F922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4F8-CBD8-4B6A-B091-0F322AB2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FE9-9B28-4862-AA1B-48A13D1B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1622-3247-4DB0-B16F-0A27F775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30D-07A9-4D1F-9C6C-1F2EB05F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59D6-BCE8-45E6-9476-9D986CEC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0A4FD-1ED8-4F54-90FE-7F73219C9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5486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ersonnel Readiness Data From The Unit Status Re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ACTICAL EXERCIS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128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168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168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336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336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440" y="228600"/>
            <a:ext cx="84279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868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47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54:04Z</dcterms:created>
  <dc:creator>mike.a.williams</dc:creator>
  <dc:description/>
  <dc:language>en-US</dc:language>
  <cp:lastModifiedBy>Administrator</cp:lastModifiedBy>
  <dcterms:modified xsi:type="dcterms:W3CDTF">2005-07-08T21:04:27Z</dcterms:modified>
  <cp:revision>9</cp:revision>
  <dc:subject/>
  <dc:title>Slide 1</dc:title>
</cp:coreProperties>
</file>